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B212-93F8-45C0-900B-30DD95BBC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9CB2-48F0-46D3-AA66-3AE509B80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BED8-1E23-4B39-974E-458AF7FB5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B3D7-8693-4CD9-B90A-AEDDE4E26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543D-CDCC-4401-B869-6C1651F0B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6CCE-8D70-45E7-9632-783B9045C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8839-003F-4D15-B0A6-FBE4C403F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5A57-E49B-4E1C-B859-39E2BF607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B113-CE75-486C-9127-13CD18C90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FBB8-5616-441C-9E31-E0A92BBB8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4A4A-D37D-4845-8EEC-8D791E2FB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371-A92D-4EAD-96FF-CAA8A4FF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018-7885-4DE3-B0F9-7F48A8CA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272-0EF3-477D-B851-354FB7A7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851-77A4-4645-BDA6-A2D8ED6E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703-6F65-4DEF-B252-6EAFA7AD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E6D-DDB0-4000-9FFF-3C4F24B4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DF3-5237-4098-9129-96169417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C8A-0C41-4FCB-BF16-374EDF3B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175-6BF5-4AAC-9CBF-3DDAEBDC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8F5-2A86-463F-9EA3-F6AA1E62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EDB-6BA3-4D7C-A75D-429772B0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6B3-AEA1-4831-AB6B-71132C05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D9AA-863A-4A9D-9C85-2B349EC31742}" type="datetime3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SBI3U - Mr.Vasili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06F1-9EA2-4E29-AD11-8ED2BCEC7FE3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031C-E0D1-476C-8589-46C778BA78FF}" type="datetime3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7EFF-32EF-40E5-A95F-DC9AD939B34E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777708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41e1e"/>
                </a:solidFill>
                <a:latin typeface="Comic Sans MS"/>
              </a:rPr>
              <a:t>UNIT 1: CELLULAR BIOLOGY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841e1e"/>
                </a:solidFill>
                <a:latin typeface="Comic Sans MS"/>
              </a:rPr>
              <a:t>Cell Theory &amp; the Microscope</a:t>
            </a:r>
            <a:endParaRPr b="0" lang="en-US" sz="4000" spc="-1" strike="noStrike">
              <a:solidFill>
                <a:srgbClr val="000000"/>
              </a:solidFill>
              <a:latin typeface="Bauhaus 93"/>
            </a:endParaRPr>
          </a:p>
        </p:txBody>
      </p:sp>
      <p:pic>
        <p:nvPicPr>
          <p:cNvPr id="51" name="Picture 18" descr="SuperStock_1612R-2774"/>
          <p:cNvPicPr/>
          <p:nvPr/>
        </p:nvPicPr>
        <p:blipFill>
          <a:blip r:embed="rId1"/>
          <a:stretch/>
        </p:blipFill>
        <p:spPr>
          <a:xfrm>
            <a:off x="4767120" y="3716280"/>
            <a:ext cx="4125960" cy="283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huge"/>
          <p:cNvPicPr/>
          <p:nvPr/>
        </p:nvPicPr>
        <p:blipFill>
          <a:blip r:embed="rId2"/>
          <a:stretch/>
        </p:blipFill>
        <p:spPr>
          <a:xfrm>
            <a:off x="179280" y="3716280"/>
            <a:ext cx="42865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croscope Activity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pic>
        <p:nvPicPr>
          <p:cNvPr id="96" name="Picture 4" descr="act005"/>
          <p:cNvPicPr/>
          <p:nvPr/>
        </p:nvPicPr>
        <p:blipFill>
          <a:blip r:embed="rId1"/>
          <a:stretch/>
        </p:blipFill>
        <p:spPr>
          <a:xfrm>
            <a:off x="1571760" y="5357880"/>
            <a:ext cx="3887640" cy="1181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428760" y="1214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Obtain a microscope.  Working in pairs, identify all       of the parts of the micro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28760" y="2071800"/>
            <a:ext cx="7929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activity (Resolution) on page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sure each of you answers questions a, b and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erial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ide &amp; cover slip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ured picture from a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This%20is%20a%20test"/>
          <p:cNvPicPr/>
          <p:nvPr/>
        </p:nvPicPr>
        <p:blipFill>
          <a:blip r:embed="rId2"/>
          <a:stretch/>
        </p:blipFill>
        <p:spPr>
          <a:xfrm>
            <a:off x="6429240" y="3714840"/>
            <a:ext cx="2116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ll Theory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living things are composed of one or more ce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lls are the basic structural and functional units of lif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cells arise from the division of other ce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  Robert Hooke discover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lls in 165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? ……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cell"/>
          <p:cNvPicPr/>
          <p:nvPr/>
        </p:nvPicPr>
        <p:blipFill>
          <a:blip r:embed="rId1"/>
          <a:stretch/>
        </p:blipFill>
        <p:spPr>
          <a:xfrm>
            <a:off x="7157880" y="260280"/>
            <a:ext cx="198612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robert_hooke"/>
          <p:cNvPicPr/>
          <p:nvPr/>
        </p:nvPicPr>
        <p:blipFill>
          <a:blip r:embed="rId2"/>
          <a:stretch/>
        </p:blipFill>
        <p:spPr>
          <a:xfrm>
            <a:off x="7236000" y="4508640"/>
            <a:ext cx="17366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pic>
        <p:nvPicPr>
          <p:cNvPr id="58" name="Picture 5" descr="fg14_3_1"/>
          <p:cNvPicPr/>
          <p:nvPr/>
        </p:nvPicPr>
        <p:blipFill>
          <a:blip r:embed="rId1"/>
          <a:stretch/>
        </p:blipFill>
        <p:spPr>
          <a:xfrm>
            <a:off x="684360" y="1628640"/>
            <a:ext cx="4038480" cy="448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138-microscopes-lg"/>
          <p:cNvPicPr/>
          <p:nvPr/>
        </p:nvPicPr>
        <p:blipFill>
          <a:blip r:embed="rId2"/>
          <a:stretch/>
        </p:blipFill>
        <p:spPr>
          <a:xfrm>
            <a:off x="5867280" y="1700280"/>
            <a:ext cx="2438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s two len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ocular lens (10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objective lens (4X, 10X, 40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ow 4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Medium 10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High 40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agnifi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ility of lenses to enlar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mage of a speci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nification = ocular lens X objective l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0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   10X     times     40X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7" descr="magnification"/>
          <p:cNvPicPr/>
          <p:nvPr/>
        </p:nvPicPr>
        <p:blipFill>
          <a:blip r:embed="rId1"/>
          <a:stretch/>
        </p:blipFill>
        <p:spPr>
          <a:xfrm>
            <a:off x="5715000" y="2286000"/>
            <a:ext cx="3193920" cy="3193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500040" y="5572080"/>
            <a:ext cx="62658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49672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mount of detail see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viewing a speci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or resolution = blurred im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resolution = clear, sharp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m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4" descr="blurry_20030715"/>
          <p:cNvPicPr/>
          <p:nvPr/>
        </p:nvPicPr>
        <p:blipFill>
          <a:blip r:embed="rId1"/>
          <a:srcRect l="33286" t="0" r="10850" b="16042"/>
          <a:stretch/>
        </p:blipFill>
        <p:spPr>
          <a:xfrm>
            <a:off x="5651640" y="1413000"/>
            <a:ext cx="302400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ell1"/>
          <p:cNvPicPr/>
          <p:nvPr/>
        </p:nvPicPr>
        <p:blipFill>
          <a:blip r:embed="rId2"/>
          <a:srcRect l="30564" t="0" r="0" b="11399"/>
          <a:stretch/>
        </p:blipFill>
        <p:spPr>
          <a:xfrm>
            <a:off x="5678640" y="3938760"/>
            <a:ext cx="2997000" cy="2187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982E-47BF-4A6C-A944-8F20E7F7C04E}" type="datetime3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C524-7C76-4987-8C5A-C1DBB5F273B5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Alba Super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1341360"/>
          <a:ext cx="445428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445428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6"/>
          <p:cNvSpPr/>
          <p:nvPr/>
        </p:nvSpPr>
        <p:spPr>
          <a:xfrm>
            <a:off x="5506920" y="873000"/>
            <a:ext cx="3168720" cy="60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 ocul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 body tub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. ar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 clip adjustment kn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adjustment kn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lving nose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er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. stage cl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1. st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. condens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3. diaphrag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4. ligh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5. 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565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croscope P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 oc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yepiece lens, magnifies 10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body tu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rects light into ocular, suppo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stage clip adjustment kn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ves slide a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coarse adjustment kn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ves stage up and down to focus 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6" name="Text Box 150"/>
          <p:cNvSpPr/>
          <p:nvPr/>
        </p:nvSpPr>
        <p:spPr>
          <a:xfrm>
            <a:off x="3708360" y="2270160"/>
            <a:ext cx="489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2"/>
          <p:cNvSpPr/>
          <p:nvPr/>
        </p:nvSpPr>
        <p:spPr>
          <a:xfrm>
            <a:off x="3708360" y="3789360"/>
            <a:ext cx="489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3"/>
          <p:cNvSpPr/>
          <p:nvPr/>
        </p:nvSpPr>
        <p:spPr>
          <a:xfrm>
            <a:off x="3708360" y="4305240"/>
            <a:ext cx="4896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4"/>
          <p:cNvSpPr/>
          <p:nvPr/>
        </p:nvSpPr>
        <p:spPr>
          <a:xfrm>
            <a:off x="3635280" y="5300640"/>
            <a:ext cx="4896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5"/>
          <p:cNvSpPr/>
          <p:nvPr/>
        </p:nvSpPr>
        <p:spPr>
          <a:xfrm>
            <a:off x="3708360" y="2781360"/>
            <a:ext cx="4896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229600" cy="495792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565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croscope P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 fine adjustment kno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e focus for most clear 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 revolving   nosepie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lds objective lenses &amp; facilitates changing magn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 objective l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rther magnifies the 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 aper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ing to allow light to hit the speci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 stage cl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lds slide in 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Text Box 46"/>
          <p:cNvSpPr/>
          <p:nvPr/>
        </p:nvSpPr>
        <p:spPr>
          <a:xfrm>
            <a:off x="3780000" y="2276640"/>
            <a:ext cx="4824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7"/>
          <p:cNvSpPr/>
          <p:nvPr/>
        </p:nvSpPr>
        <p:spPr>
          <a:xfrm>
            <a:off x="3708360" y="3213000"/>
            <a:ext cx="482436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708360" y="4594320"/>
            <a:ext cx="4824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3708360" y="5170320"/>
            <a:ext cx="4824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1"/>
          <p:cNvSpPr/>
          <p:nvPr/>
        </p:nvSpPr>
        <p:spPr>
          <a:xfrm>
            <a:off x="3708360" y="6073920"/>
            <a:ext cx="4824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00200"/>
          <a:ext cx="8229600" cy="415116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565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croscope P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 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ce specimen on 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 conden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cuses light into a b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 diaphrag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rols the amount of light hitting the speci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 ligh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nds out light rays so specimen is 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.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pports microsc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9"/>
          <p:cNvSpPr/>
          <p:nvPr/>
        </p:nvSpPr>
        <p:spPr>
          <a:xfrm>
            <a:off x="3851280" y="2205000"/>
            <a:ext cx="4608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3780000" y="2846520"/>
            <a:ext cx="4608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3708360" y="3422520"/>
            <a:ext cx="47512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3708360" y="4365720"/>
            <a:ext cx="47512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3780000" y="5294160"/>
            <a:ext cx="4608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3:45:35Z</dcterms:created>
  <dc:creator>Candle</dc:creator>
  <dc:description/>
  <dc:language>en-US</dc:language>
  <cp:lastModifiedBy>mobilef</cp:lastModifiedBy>
  <dcterms:modified xsi:type="dcterms:W3CDTF">2013-03-12T20:24:35Z</dcterms:modified>
  <cp:revision>112</cp:revision>
  <dc:subject/>
  <dc:title>Slide 1</dc:title>
</cp:coreProperties>
</file>